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5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B9EF-21E8-497A-92FC-08201011A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2E8-0C43-47B7-8FCF-87A6AEACED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097-59CD-4AB3-B7C6-431B5AC6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E6C-30C2-42F0-81B2-A584D459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A2E-6FE0-42DB-97E4-D3155744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FDE-3E91-4873-BDA3-E77A6806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7579-6C3C-4DFE-B793-32EC675F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DCB5-4765-4D5E-A15D-A96F347E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DA66-2B42-4294-B832-1149BDFF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4C49-A391-4392-BF93-8A95726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B6A6-8C56-4D2D-956C-D83482EC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C237-C654-4360-9956-A8E802C0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F66D-72E4-4DE4-9709-F63170B7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945-0A34-4EC0-8963-9BF4A013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6F04-9926-42B1-B3DF-997D0886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6FDE-C13B-4E77-A039-1AE0D0C0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CF3D-8ADD-45CB-8197-4F7DC403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DB11-D231-494C-87C7-7F355129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9248-9CA2-4C14-96B6-434CDDEF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440-3840-4D82-9D67-8487B245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930-EB08-44BE-AD83-5E51CDC7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F91-DBCA-40D4-B347-46686D89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56C-6760-4BD1-8004-22B270DC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AD6-2E43-4344-9B82-3F800812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624-7D01-4545-A407-4E65D2CB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C58-EF8B-4379-96CD-94764CE2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C9C1-45A2-490B-A20B-B01C2814A57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0072-700B-4D6E-895B-DF4CDC61359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5104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sam and trent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3" descr="trenehuilrgyutrho95uiw3z4rc3eecedcedc.jpg"/>
          <p:cNvPicPr/>
          <p:nvPr/>
        </p:nvPicPr>
        <p:blipFill>
          <a:blip r:embed="rId2"/>
          <a:stretch/>
        </p:blipFill>
        <p:spPr>
          <a:xfrm>
            <a:off x="228600" y="3962520"/>
            <a:ext cx="2895480" cy="240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nfnnfnfnnfnfnfn.jpg"/>
          <p:cNvPicPr/>
          <p:nvPr/>
        </p:nvPicPr>
        <p:blipFill>
          <a:blip r:embed="rId3"/>
          <a:stretch/>
        </p:blipFill>
        <p:spPr>
          <a:xfrm>
            <a:off x="3505320" y="3809880"/>
            <a:ext cx="4240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egislative branch is the congress it makes laws and establishes laws . It is made up of the congress and government agencies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3" descr="trentonmomd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81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trentonmomdadsisterdog.jpg"/>
          <p:cNvPicPr/>
          <p:nvPr/>
        </p:nvPicPr>
        <p:blipFill>
          <a:blip r:embed="rId3"/>
          <a:stretch/>
        </p:blipFill>
        <p:spPr>
          <a:xfrm>
            <a:off x="0" y="5181480"/>
            <a:ext cx="9144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298440" y="1365120"/>
            <a:ext cx="8674200" cy="2054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has president and can make laws and make commands the army.The executive branch has a vice president that can become the president if the president can no longer do the job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3" descr="hiiiiiiiiii.jpg"/>
          <p:cNvPicPr/>
          <p:nvPr/>
        </p:nvPicPr>
        <p:blipFill>
          <a:blip r:embed="rId2"/>
          <a:stretch/>
        </p:blipFill>
        <p:spPr>
          <a:xfrm>
            <a:off x="457200" y="0"/>
            <a:ext cx="3276720" cy="254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rfhuyhygjy45gjyjg.jpg"/>
          <p:cNvPicPr/>
          <p:nvPr/>
        </p:nvPicPr>
        <p:blipFill>
          <a:blip r:embed="rId3"/>
          <a:stretch/>
        </p:blipFill>
        <p:spPr>
          <a:xfrm>
            <a:off x="3733920" y="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herynhyunihnyn4y.jpg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238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the branch that contains the supreme court this branch can decide what laws follow the constitution . This branch is made up of the court and the supreme court is the highest court system in the branch 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3" descr="trenton.jpg"/>
          <p:cNvPicPr/>
          <p:nvPr/>
        </p:nvPicPr>
        <p:blipFill>
          <a:blip r:embed="rId2"/>
          <a:stretch/>
        </p:blipFill>
        <p:spPr>
          <a:xfrm>
            <a:off x="0" y="3832200"/>
            <a:ext cx="4038480" cy="302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EPIC!!!.bmp"/>
          <p:cNvPicPr/>
          <p:nvPr/>
        </p:nvPicPr>
        <p:blipFill>
          <a:blip r:embed="rId3"/>
          <a:stretch/>
        </p:blipFill>
        <p:spPr>
          <a:xfrm>
            <a:off x="4191120" y="3733920"/>
            <a:ext cx="4694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9:26:53Z</dcterms:created>
  <dc:creator>TechSpec</dc:creator>
  <dc:description/>
  <dc:language>en-US</dc:language>
  <cp:lastModifiedBy>TechSpec</cp:lastModifiedBy>
  <dcterms:modified xsi:type="dcterms:W3CDTF">2012-03-26T19:39:27Z</dcterms:modified>
  <cp:revision>8</cp:revision>
  <dc:subject/>
  <dc:title>The  Three Branches of the Government</dc:title>
</cp:coreProperties>
</file>